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F12D-6AFB-4517-8DDA-BF0FFD645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C0E-D64B-4F71-9E06-B595DDD3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F4B-F950-4511-94AD-12714559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971-CFC6-422F-B0CC-0841A809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7E5-DEC4-47DA-8113-648730DD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E7E-D0D9-4BBB-AE3B-E4AFCD41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F03-AD12-4C86-8973-FB7C034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02B-55DC-40F0-8CA6-E4CF3FA4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EFD-7CB7-4CC0-9041-E6BA1DE2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4B6-7B7E-4159-9BC0-821983A2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1F6-4C9E-4EBA-8467-F4F1FFA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75B-8EF4-4137-BABC-F8898437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5D2-6431-436F-8D26-B642FD8A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6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EABF-2BC3-4401-B5C4-D7C255D65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ilyinfo.co.uk/images/dragon%20reading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akinheritance.com/images/largepics/stoo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gickeys.com/book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dragon%2520rea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30254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001310128"/>
          <p:cNvPicPr/>
          <p:nvPr/>
        </p:nvPicPr>
        <p:blipFill>
          <a:blip r:embed="rId1"/>
          <a:stretch/>
        </p:blipFill>
        <p:spPr>
          <a:xfrm>
            <a:off x="2195640" y="1557360"/>
            <a:ext cx="44654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85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漫画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84360" y="14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372360" y="1341360"/>
            <a:ext cx="2282760" cy="752400"/>
          </a:xfrm>
          <a:prstGeom prst="wedgeRoundRectCallout">
            <a:avLst>
              <a:gd name="adj1" fmla="val -122879"/>
              <a:gd name="adj2" fmla="val 20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498276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557360"/>
          <a:ext cx="7180200" cy="428940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846000"/>
                <a:gridCol w="1024200"/>
                <a:gridCol w="1025280"/>
                <a:gridCol w="1027440"/>
                <a:gridCol w="1025280"/>
              </a:tblGrid>
              <a:tr h="64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18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435880" cy="2260440"/>
        </p:xfrm>
        <a:graphic>
          <a:graphicData uri="http://schemas.openxmlformats.org/drawingml/2006/table">
            <a:tbl>
              <a:tblPr/>
              <a:tblGrid>
                <a:gridCol w="2813040"/>
                <a:gridCol w="2809800"/>
                <a:gridCol w="2813040"/>
              </a:tblGrid>
              <a:tr h="105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Reading in Japan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Semester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ｒｅ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（中間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ｏｓｔ　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01"/>
          <p:cNvSpPr/>
          <p:nvPr/>
        </p:nvSpPr>
        <p:spPr>
          <a:xfrm>
            <a:off x="539640" y="3933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4005360"/>
          <a:ext cx="8424720" cy="2087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Ｅｘｔｅｎｓｉｖ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ｅａｄｉｎｇ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ｒａｄｉｔｉｏｎａ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lease summarize with your friends what I have said up to this poi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62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99728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19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udents do extracurricular 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7400" y="3068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4000" y="4581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129400" y="1197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t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2390760" cy="28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059280" y="1341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763640" y="494172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＝　するつも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vi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nds out, he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be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’s going to 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tr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147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486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alcolm X Photo"/>
          <p:cNvPicPr/>
          <p:nvPr/>
        </p:nvPicPr>
        <p:blipFill>
          <a:blip r:embed="rId1"/>
          <a:stretch/>
        </p:blipFill>
        <p:spPr>
          <a:xfrm>
            <a:off x="3132000" y="1844640"/>
            <a:ext cx="3206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ent to school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Middle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雄弁な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自叙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052640"/>
            <a:ext cx="868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gickeys.com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ease read on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受験勉強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3:45:19Z</dcterms:created>
  <dc:creator>東洋大学</dc:creator>
  <dc:description/>
  <dc:language>en-US</dc:language>
  <cp:lastModifiedBy>LEGION</cp:lastModifiedBy>
  <dcterms:modified xsi:type="dcterms:W3CDTF">2015-09-11T13:13:25Z</dcterms:modified>
  <cp:revision>16</cp:revision>
  <dc:subject/>
  <dc:title>The Power of Reading</dc:title>
</cp:coreProperties>
</file>